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D11B5-C7CE-405C-A586-E4B978AF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D99C5-61C3-4865-973B-FD025746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20F9-E619-4BCE-BF2D-9625B47E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FD04B-FFB3-4C8E-A1EC-DA1E514C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F3DE-E848-421E-A02D-F4F1435E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C740-E876-41AE-A907-F7E66D7E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3AFA-6251-4A84-A57D-A2E457DD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A95E-40B3-48FA-BFF7-A62555B2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65F3-1C46-4E31-B33B-25701CA2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5E52-3681-4DD4-BFF0-766379C1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FB9C-300E-44DA-9A26-43CFB314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D0BD7-922F-4AF1-B14E-1A5EBCDC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4C1A-5426-4CF4-A474-7C6DD83D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04CF-BBCE-4236-9F45-5923B78F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B162-FB76-441D-8026-2E3BAC4E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E6B1-4AC6-4DF2-BBE6-C51B2DDA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2481-E364-4B7D-9AB8-B3417D51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06746-BF1C-40AF-B7B2-17F84B12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2F56E-9D99-4B1C-B007-C25D8A9B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826B1-E3C1-45BC-B85F-CE156088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9CE42-57B5-44F2-A237-EC7A481B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FA889-FA89-4014-BB22-0039C48F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D8150-4D15-474B-9662-1D46A4DD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AFE1-E0FE-4D99-BAF8-3BE757E4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96C5-1EB3-46A0-B32D-695A88C681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2042-2213-4614-BE99-F851A71588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iunghiul dreptunghi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Funcţii trigonomet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0"/>
          <p:cNvGrpSpPr/>
          <p:nvPr/>
        </p:nvGrpSpPr>
        <p:grpSpPr>
          <a:xfrm>
            <a:off x="539640" y="1268280"/>
            <a:ext cx="6224760" cy="4921560"/>
            <a:chOff x="539640" y="1268280"/>
            <a:chExt cx="6224760" cy="4921560"/>
          </a:xfrm>
        </p:grpSpPr>
        <p:sp>
          <p:nvSpPr>
            <p:cNvPr id="194" name="AutoShape 10"/>
            <p:cNvSpPr/>
            <p:nvPr/>
          </p:nvSpPr>
          <p:spPr>
            <a:xfrm rot="7493400">
              <a:off x="1946160" y="1864080"/>
              <a:ext cx="2817000" cy="403380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2"/>
            <p:cNvSpPr/>
            <p:nvPr/>
          </p:nvSpPr>
          <p:spPr>
            <a:xfrm>
              <a:off x="5865840" y="357228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2255040" y="1268280"/>
              <a:ext cx="76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4"/>
            <p:cNvSpPr/>
            <p:nvPr/>
          </p:nvSpPr>
          <p:spPr>
            <a:xfrm>
              <a:off x="539640" y="3525840"/>
              <a:ext cx="89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000" y="407664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sinus = raportul dintre cateta opusă şi ipotenuz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sinus = raportul dintre cateta alăturată şi ipotenuz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tangentă = raportul dintre cateta opusă şi cateta alăturat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tangentă = raportul dintre cateta alăturată şi cateta opus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 este triunghiul dreptunghi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numeste triunghi dreptunghic, triunghiul care are un unghi dr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8"/>
          <p:cNvGrpSpPr/>
          <p:nvPr/>
        </p:nvGrpSpPr>
        <p:grpSpPr>
          <a:xfrm>
            <a:off x="4067280" y="3284640"/>
            <a:ext cx="3817800" cy="2449440"/>
            <a:chOff x="4067280" y="3284640"/>
            <a:chExt cx="3817800" cy="2449440"/>
          </a:xfrm>
        </p:grpSpPr>
        <p:sp>
          <p:nvSpPr>
            <p:cNvPr id="120" name="AutoShape 5"/>
            <p:cNvSpPr/>
            <p:nvPr/>
          </p:nvSpPr>
          <p:spPr>
            <a:xfrm rot="16200000">
              <a:off x="4751280" y="2600280"/>
              <a:ext cx="2449440" cy="381780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7667640" y="5516640"/>
              <a:ext cx="217440" cy="2174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m se numesc laturile triunghiului dreptungh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2920" y="3429000"/>
            <a:ext cx="403884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, AC – cat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- ipotenu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7"/>
          <p:cNvGrpSpPr/>
          <p:nvPr/>
        </p:nvGrpSpPr>
        <p:grpSpPr>
          <a:xfrm>
            <a:off x="748080" y="1989000"/>
            <a:ext cx="3925440" cy="4126680"/>
            <a:chOff x="748080" y="1989000"/>
            <a:chExt cx="3925440" cy="4126680"/>
          </a:xfrm>
        </p:grpSpPr>
        <p:grpSp>
          <p:nvGrpSpPr>
            <p:cNvPr id="125" name="Group 15"/>
            <p:cNvGrpSpPr/>
            <p:nvPr/>
          </p:nvGrpSpPr>
          <p:grpSpPr>
            <a:xfrm>
              <a:off x="748080" y="1989000"/>
              <a:ext cx="3925440" cy="4126680"/>
              <a:chOff x="748080" y="1989000"/>
              <a:chExt cx="3925440" cy="4126680"/>
            </a:xfrm>
          </p:grpSpPr>
          <p:sp>
            <p:nvSpPr>
              <p:cNvPr id="126" name="AutoShape 8"/>
              <p:cNvSpPr/>
              <p:nvPr/>
            </p:nvSpPr>
            <p:spPr>
              <a:xfrm rot="3084000">
                <a:off x="1815480" y="2649240"/>
                <a:ext cx="2198520" cy="2745000"/>
              </a:xfrm>
              <a:prstGeom prst="rtTriangl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9"/>
              <p:cNvSpPr/>
              <p:nvPr/>
            </p:nvSpPr>
            <p:spPr>
              <a:xfrm>
                <a:off x="3270240" y="1989000"/>
                <a:ext cx="36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10"/>
              <p:cNvSpPr/>
              <p:nvPr/>
            </p:nvSpPr>
            <p:spPr>
              <a:xfrm rot="21458400">
                <a:off x="755280" y="3722040"/>
                <a:ext cx="31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1"/>
              <p:cNvSpPr/>
              <p:nvPr/>
            </p:nvSpPr>
            <p:spPr>
              <a:xfrm rot="21475200">
                <a:off x="2441520" y="574020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Rectangle 16"/>
            <p:cNvSpPr/>
            <p:nvPr/>
          </p:nvSpPr>
          <p:spPr>
            <a:xfrm rot="2952600">
              <a:off x="1208160" y="3912120"/>
              <a:ext cx="192240" cy="235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3480" y="54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 proprietate au unghiurile ascutite ale unui triunghi dreptunghi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5545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ghiurile ascutite ale unui triunghi dreptunghic sunt complement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(&lt;B) + m(&lt;C)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4"/>
          <p:cNvGrpSpPr/>
          <p:nvPr/>
        </p:nvGrpSpPr>
        <p:grpSpPr>
          <a:xfrm>
            <a:off x="4676760" y="2952360"/>
            <a:ext cx="3515400" cy="2950920"/>
            <a:chOff x="4676760" y="2952360"/>
            <a:chExt cx="3515400" cy="2950920"/>
          </a:xfrm>
        </p:grpSpPr>
        <p:sp>
          <p:nvSpPr>
            <p:cNvPr id="134" name="AutoShape 9"/>
            <p:cNvSpPr/>
            <p:nvPr/>
          </p:nvSpPr>
          <p:spPr>
            <a:xfrm rot="16225800">
              <a:off x="5354280" y="3075480"/>
              <a:ext cx="2198880" cy="27446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0"/>
            <p:cNvSpPr/>
            <p:nvPr/>
          </p:nvSpPr>
          <p:spPr>
            <a:xfrm rot="21322200">
              <a:off x="4690800" y="5363640"/>
              <a:ext cx="36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 rot="21473400">
              <a:off x="7713720" y="5526360"/>
              <a:ext cx="4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2"/>
            <p:cNvSpPr/>
            <p:nvPr/>
          </p:nvSpPr>
          <p:spPr>
            <a:xfrm rot="21473400">
              <a:off x="7661880" y="2959560"/>
              <a:ext cx="4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3"/>
            <p:cNvSpPr/>
            <p:nvPr/>
          </p:nvSpPr>
          <p:spPr>
            <a:xfrm rot="16094400">
              <a:off x="7614360" y="5338800"/>
              <a:ext cx="192240" cy="235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912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m se calculeaza aria si perimetrul unui triunghi dreptunghic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7"/>
          <p:cNvGrpSpPr/>
          <p:nvPr/>
        </p:nvGrpSpPr>
        <p:grpSpPr>
          <a:xfrm>
            <a:off x="611280" y="1773360"/>
            <a:ext cx="3889080" cy="3783240"/>
            <a:chOff x="611280" y="1773360"/>
            <a:chExt cx="3889080" cy="3783240"/>
          </a:xfrm>
        </p:grpSpPr>
        <p:sp>
          <p:nvSpPr>
            <p:cNvPr id="141" name="AutoShape 10"/>
            <p:cNvSpPr/>
            <p:nvPr/>
          </p:nvSpPr>
          <p:spPr>
            <a:xfrm>
              <a:off x="1261440" y="2057760"/>
              <a:ext cx="2374560" cy="322668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2"/>
            <p:cNvSpPr/>
            <p:nvPr/>
          </p:nvSpPr>
          <p:spPr>
            <a:xfrm>
              <a:off x="611280" y="1773360"/>
              <a:ext cx="7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3"/>
            <p:cNvSpPr/>
            <p:nvPr/>
          </p:nvSpPr>
          <p:spPr>
            <a:xfrm>
              <a:off x="611280" y="518832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4"/>
            <p:cNvSpPr/>
            <p:nvPr/>
          </p:nvSpPr>
          <p:spPr>
            <a:xfrm>
              <a:off x="3745440" y="5094360"/>
              <a:ext cx="7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5"/>
            <p:cNvSpPr/>
            <p:nvPr/>
          </p:nvSpPr>
          <p:spPr>
            <a:xfrm>
              <a:off x="2988000" y="3956760"/>
              <a:ext cx="7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6"/>
            <p:cNvSpPr/>
            <p:nvPr/>
          </p:nvSpPr>
          <p:spPr>
            <a:xfrm flipV="1">
              <a:off x="1261440" y="4240440"/>
              <a:ext cx="1619640" cy="10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18"/>
          <p:cNvSpPr/>
          <p:nvPr/>
        </p:nvSpPr>
        <p:spPr>
          <a:xfrm>
            <a:off x="5072040" y="485784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1"/>
              <p:cNvSpPr txBox="1"/>
              <p:nvPr/>
            </p:nvSpPr>
            <p:spPr>
              <a:xfrm>
                <a:off x="5143680" y="1857240"/>
                <a:ext cx="21049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3"/>
              <p:cNvSpPr txBox="1"/>
              <p:nvPr/>
            </p:nvSpPr>
            <p:spPr>
              <a:xfrm>
                <a:off x="5072040" y="3286080"/>
                <a:ext cx="21049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etatea medianei corespunzatoare ipotenuz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71320" y="2142720"/>
            <a:ext cx="7900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tr-un triunghi dreptunghic, lungimea medianei corespunzătoare ipotenuzei este egală cu jumătate din lungimea ipotenuz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3"/>
          <p:cNvGrpSpPr/>
          <p:nvPr/>
        </p:nvGrpSpPr>
        <p:grpSpPr>
          <a:xfrm>
            <a:off x="2421000" y="3071880"/>
            <a:ext cx="5718240" cy="2936880"/>
            <a:chOff x="2421000" y="3071880"/>
            <a:chExt cx="5718240" cy="2936880"/>
          </a:xfrm>
        </p:grpSpPr>
        <p:sp>
          <p:nvSpPr>
            <p:cNvPr id="156" name="AutoShape 9"/>
            <p:cNvSpPr/>
            <p:nvPr/>
          </p:nvSpPr>
          <p:spPr>
            <a:xfrm rot="16352400">
              <a:off x="4282200" y="2258640"/>
              <a:ext cx="2198520" cy="44960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 rot="21448800">
              <a:off x="2428560" y="5363640"/>
              <a:ext cx="59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1"/>
            <p:cNvSpPr/>
            <p:nvPr/>
          </p:nvSpPr>
          <p:spPr>
            <a:xfrm>
              <a:off x="7367040" y="5640480"/>
              <a:ext cx="7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7437240" y="307188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3"/>
            <p:cNvSpPr/>
            <p:nvPr/>
          </p:nvSpPr>
          <p:spPr>
            <a:xfrm rot="16221000">
              <a:off x="7419960" y="5565240"/>
              <a:ext cx="156960" cy="1404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Conector drept 10"/>
          <p:cNvSpPr/>
          <p:nvPr/>
        </p:nvSpPr>
        <p:spPr>
          <a:xfrm flipH="1" flipV="1">
            <a:off x="5428800" y="4500360"/>
            <a:ext cx="2143080" cy="12142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asetăText 20"/>
          <p:cNvSpPr/>
          <p:nvPr/>
        </p:nvSpPr>
        <p:spPr>
          <a:xfrm>
            <a:off x="5000760" y="42148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000080" y="4000680"/>
                <a:ext cx="16858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eorema înălţim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9640" y="119700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tr-un triunghi dreptunghic, înălţimea dusă din vârful unghiului drept este medie proporţională între segmentele determinate de ea pe ipotenuz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24000" y="3715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=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BD ∙  D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7"/>
          <p:cNvGrpSpPr/>
          <p:nvPr/>
        </p:nvGrpSpPr>
        <p:grpSpPr>
          <a:xfrm>
            <a:off x="900000" y="2565360"/>
            <a:ext cx="4041000" cy="3741840"/>
            <a:chOff x="900000" y="2565360"/>
            <a:chExt cx="4041000" cy="3741840"/>
          </a:xfrm>
        </p:grpSpPr>
        <p:sp>
          <p:nvSpPr>
            <p:cNvPr id="168" name="AutoShape 10"/>
            <p:cNvSpPr/>
            <p:nvPr/>
          </p:nvSpPr>
          <p:spPr>
            <a:xfrm>
              <a:off x="1575720" y="2846160"/>
              <a:ext cx="2467440" cy="31874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900000" y="2565360"/>
              <a:ext cx="7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900000" y="5938920"/>
              <a:ext cx="6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4156560" y="584604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369960" y="472212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 flipV="1">
              <a:off x="1575720" y="5002560"/>
              <a:ext cx="1683000" cy="10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eorema catet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tr-un triunghi dreptunghic, o catetă este medie proporţională între segmentele ipotenuză şi proiecţia ei pe ipotenuz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066920" y="4436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7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=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BD ∙ 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=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CD ∙ 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7"/>
          <p:cNvGrpSpPr/>
          <p:nvPr/>
        </p:nvGrpSpPr>
        <p:grpSpPr>
          <a:xfrm>
            <a:off x="900000" y="2565360"/>
            <a:ext cx="4041000" cy="3741840"/>
            <a:chOff x="900000" y="2565360"/>
            <a:chExt cx="4041000" cy="3741840"/>
          </a:xfrm>
        </p:grpSpPr>
        <p:sp>
          <p:nvSpPr>
            <p:cNvPr id="178" name="AutoShape 10"/>
            <p:cNvSpPr/>
            <p:nvPr/>
          </p:nvSpPr>
          <p:spPr>
            <a:xfrm>
              <a:off x="1575720" y="2846160"/>
              <a:ext cx="2467440" cy="31874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2"/>
            <p:cNvSpPr/>
            <p:nvPr/>
          </p:nvSpPr>
          <p:spPr>
            <a:xfrm>
              <a:off x="900000" y="2565360"/>
              <a:ext cx="7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900000" y="5938920"/>
              <a:ext cx="6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4"/>
            <p:cNvSpPr/>
            <p:nvPr/>
          </p:nvSpPr>
          <p:spPr>
            <a:xfrm>
              <a:off x="4156560" y="584604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5"/>
            <p:cNvSpPr/>
            <p:nvPr/>
          </p:nvSpPr>
          <p:spPr>
            <a:xfrm>
              <a:off x="3369960" y="472212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6"/>
            <p:cNvSpPr/>
            <p:nvPr/>
          </p:nvSpPr>
          <p:spPr>
            <a:xfrm flipV="1">
              <a:off x="1575720" y="5002560"/>
              <a:ext cx="1683000" cy="10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eorema lui Pitag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5280" y="1268280"/>
            <a:ext cx="8353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tr-un triunghi dreptunghic, suma lungimilor pătratelor catetelor este egală cu pătratul ipotenuz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347640" y="3715920"/>
            <a:ext cx="4969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+ AC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= BC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4"/>
          <p:cNvGrpSpPr/>
          <p:nvPr/>
        </p:nvGrpSpPr>
        <p:grpSpPr>
          <a:xfrm>
            <a:off x="539640" y="2565360"/>
            <a:ext cx="4041720" cy="3742200"/>
            <a:chOff x="539640" y="2565360"/>
            <a:chExt cx="4041720" cy="3742200"/>
          </a:xfrm>
        </p:grpSpPr>
        <p:sp>
          <p:nvSpPr>
            <p:cNvPr id="188" name="AutoShape 10"/>
            <p:cNvSpPr/>
            <p:nvPr/>
          </p:nvSpPr>
          <p:spPr>
            <a:xfrm>
              <a:off x="1215360" y="2846160"/>
              <a:ext cx="2467800" cy="318816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2"/>
            <p:cNvSpPr/>
            <p:nvPr/>
          </p:nvSpPr>
          <p:spPr>
            <a:xfrm>
              <a:off x="539640" y="2565360"/>
              <a:ext cx="78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3"/>
            <p:cNvSpPr/>
            <p:nvPr/>
          </p:nvSpPr>
          <p:spPr>
            <a:xfrm>
              <a:off x="539640" y="5939280"/>
              <a:ext cx="6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4"/>
            <p:cNvSpPr/>
            <p:nvPr/>
          </p:nvSpPr>
          <p:spPr>
            <a:xfrm>
              <a:off x="3796920" y="584640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8:24:54Z</dcterms:created>
  <dc:creator>Bugs Bunny</dc:creator>
  <dc:description/>
  <dc:language>en-US</dc:language>
  <cp:lastModifiedBy>Cursant17</cp:lastModifiedBy>
  <dcterms:modified xsi:type="dcterms:W3CDTF">2010-08-25T11:16:47Z</dcterms:modified>
  <cp:revision>26</cp:revision>
  <dc:subject/>
  <dc:title>Triunghiul dreptunghic</dc:title>
</cp:coreProperties>
</file>